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915-1767-47F9-BFCC-22863D9B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7B2-095D-4A09-9EE7-A5A7D58E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EB7-F0E5-40B0-BE88-2330E012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725-9916-4FA0-8973-C10E824A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E25-DB2D-4023-8861-7AA585CA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6E8-CCE3-4132-813B-BDB0E72D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83F-589B-4ECD-96DE-59605919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B0A-5134-4425-BA4C-29A30EAD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514-C0CB-4F49-B193-CB6E661D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B2E-DD4C-4475-A0A5-FD1313AA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F04-C543-4B99-B659-4566A41C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BD3-D21B-4DD7-8964-AAB01EC7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33D4-96CC-4E6D-B439-2A15C3D4173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7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5c0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11640" y="4321080"/>
            <a:ext cx="291276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оставитель: классный руководитель 6 класса Нарыкова Н.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00000" y="1962000"/>
            <a:ext cx="3457800" cy="257652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4830840" y="1379520"/>
            <a:ext cx="3673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нь от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5" name="Прямоугольник 1" descr=""/>
          <p:cNvPicPr/>
          <p:nvPr/>
        </p:nvPicPr>
        <p:blipFill>
          <a:blip r:embed="rId3"/>
          <a:stretch/>
        </p:blipFill>
        <p:spPr>
          <a:xfrm>
            <a:off x="2359080" y="73080"/>
            <a:ext cx="493236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4581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5494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здравляю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НАРЫКОВА\2021-2022 учебный год\Школьные мероприятия\Мой папа\Фото хештег\20211012_152423.jpg"/>
          <p:cNvPicPr/>
          <p:nvPr/>
        </p:nvPicPr>
        <p:blipFill>
          <a:blip r:embed="rId1"/>
          <a:stretch/>
        </p:blipFill>
        <p:spPr>
          <a:xfrm>
            <a:off x="4859280" y="19080"/>
            <a:ext cx="307836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8481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C:\НАРЫКОВА\2021-2022 учебный год\Школьные мероприятия\Мой папа\Фото хештег\IMG-20211013-WA0006.jpg"/>
          <p:cNvPicPr/>
          <p:nvPr/>
        </p:nvPicPr>
        <p:blipFill>
          <a:blip r:embed="rId1"/>
          <a:stretch/>
        </p:blipFill>
        <p:spPr>
          <a:xfrm>
            <a:off x="2124000" y="0"/>
            <a:ext cx="5112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4788000" y="620640"/>
            <a:ext cx="3970080" cy="562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НАРЫКОВА\2021-2022 учебный год\Школьные мероприятия\Мой папа\Фото хештег\IMG-20211013-WA0005.jpg"/>
          <p:cNvPicPr/>
          <p:nvPr/>
        </p:nvPicPr>
        <p:blipFill>
          <a:blip r:embed="rId2"/>
          <a:stretch/>
        </p:blipFill>
        <p:spPr>
          <a:xfrm>
            <a:off x="395280" y="620640"/>
            <a:ext cx="4229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977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се ребята молодцы!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лучайте сладкие приз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179280" y="2997360"/>
            <a:ext cx="8964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Из словаря С.И. Ожег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е́ц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тца,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ар, зват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отче,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1. Мужчина по отношению к своим детям.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одной о. О. семей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отец как глава семьи).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еродной о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отчим).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иёмный о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усыновивший или удочеривший ребёнка, детей).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званый о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неродной, приёмный).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 отца к сыну переходит что-н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также перен.: от поколения к поколению).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ажёный о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532720" cy="57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7 октября 2021 года праздну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ень Отца в Росс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1569960" y="1692360"/>
            <a:ext cx="6203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оссии День Отца официально учрежден 04.10.2021 года Президентом Российской Федерации В.В. Пути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В Курской области в сентябре отпразднуют День отца"/>
          <p:cNvPicPr/>
          <p:nvPr/>
        </p:nvPicPr>
        <p:blipFill>
          <a:blip r:embed="rId1"/>
          <a:stretch/>
        </p:blipFill>
        <p:spPr>
          <a:xfrm>
            <a:off x="33480" y="2060640"/>
            <a:ext cx="4103640" cy="4103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лов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44760" y="24210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дидяти отец всегда сильнее все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акой отец, таков и сы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тец наказывает, отец и хвал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Отец сына не на худо уч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НАРЫКОВА\2021-2022 учебный год\Школьные мероприятия\Мой папа\Фото хештег\IMG-20211014-WA0003.jpg"/>
          <p:cNvPicPr/>
          <p:nvPr/>
        </p:nvPicPr>
        <p:blipFill>
          <a:blip r:embed="rId1"/>
          <a:stretch/>
        </p:blipFill>
        <p:spPr>
          <a:xfrm>
            <a:off x="0" y="907920"/>
            <a:ext cx="3924360" cy="5232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НАРЫКОВА\2021-2022 учебный год\Школьные мероприятия\Мой папа\Фото хештег\IMG-20211014-WA0006.jpg"/>
          <p:cNvPicPr/>
          <p:nvPr/>
        </p:nvPicPr>
        <p:blipFill>
          <a:blip r:embed="rId2"/>
          <a:stretch/>
        </p:blipFill>
        <p:spPr>
          <a:xfrm>
            <a:off x="3995640" y="46080"/>
            <a:ext cx="504036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C:\НАРЫКОВА\2021-2022 учебный год\Школьные мероприятия\Мой папа\Фото хештег\IMG-20211014-WA0004.jpg"/>
          <p:cNvPicPr/>
          <p:nvPr/>
        </p:nvPicPr>
        <p:blipFill>
          <a:blip r:embed="rId1"/>
          <a:stretch/>
        </p:blipFill>
        <p:spPr>
          <a:xfrm>
            <a:off x="2050920" y="9360"/>
            <a:ext cx="5042160" cy="697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124000" y="11592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</a:rPr>
              <a:t>ЗАГАДК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900000" y="1284120"/>
            <a:ext cx="741708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3152520" cy="665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932360" y="0"/>
            <a:ext cx="3240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3:16Z</dcterms:created>
  <dc:creator>ppsworld.ru</dc:creator>
  <dc:description/>
  <dc:language>en-US</dc:language>
  <cp:lastModifiedBy>User</cp:lastModifiedBy>
  <dcterms:modified xsi:type="dcterms:W3CDTF">2021-10-14T09:41:32Z</dcterms:modified>
  <cp:revision>41</cp:revision>
  <dc:subject/>
  <dc:title>PRESENTATION  NAME</dc:title>
</cp:coreProperties>
</file>